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0CF-A947-455D-B24A-3823463D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E8D-3A58-4E60-B803-64C326E4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191-63C4-4785-9423-349FD81B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441-B63C-4117-B593-0019A157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293A-B7C4-435B-92D3-15D59DC5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F3D-607F-4805-9F5D-B9835B45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F315-AD13-49FD-BF36-A65F26AA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28AB-DB1B-48E4-9FC9-965DB7E6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048A-249E-473C-89FC-0CA00EF9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2B6-061C-4B5A-A866-45984EEC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8E8-E8D7-4F90-A782-2F43C382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70EF-9BE7-443A-B1DE-7F61B98D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BDE0-0CD6-472B-8BA8-05847A086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verview of Pl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lant Ce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like animal cells, plant cells hav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wall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hich provide structure and prote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plant cells contain the green pigment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lorophy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otosynthes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a process where plants use chlorophyll to make foo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lorophyll is found in a cell structure called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hloropla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of the space inside many plant cells is taken up by a large, membrane-bound structure called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entral vacuo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which regulates water cont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tists think plants probably evolved from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reen alga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the sea because they have the same types of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hlorophyll and carotenoi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sils of early plants are similar to ancien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een alg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lants moved to land, they had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a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new con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unlight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rbon diox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r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 developed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ti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help hold water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walls develop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llul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llow them to stand upright on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resistan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e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abled plants to reproduce on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5638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7920" y="563868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ar Plants:  roots, stems and leaves; transpor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5257800" cy="2538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3247920" cy="4067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38480" y="4191120"/>
            <a:ext cx="464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 Vascular Plants:  have no roots, stems or lea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8:50:52Z</dcterms:created>
  <dc:creator>Teacher</dc:creator>
  <dc:description/>
  <dc:language>en-US</dc:language>
  <cp:lastModifiedBy>Teacher</cp:lastModifiedBy>
  <dcterms:modified xsi:type="dcterms:W3CDTF">2008-09-10T19:01:31Z</dcterms:modified>
  <cp:revision>2</cp:revision>
  <dc:subject/>
  <dc:title>Overview of Plants</dc:title>
</cp:coreProperties>
</file>